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659E-55A2-4890-A530-1D69399B4DE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A6D0-49F3-4389-91C0-23E669ECC12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05D5-AFCF-4EB5-BDDF-46B462DB77F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6236-7E99-4CF5-8A47-E1FB65B1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638A-9196-4A44-A2AD-3E8D9FA3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29D33-6752-4FFC-AABD-3DBB1B0C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63B99-09AF-4F83-8CF4-FDFB2691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455F0-B7AB-4063-9D57-8CF18ACD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72457-81F2-416D-B95E-AD15AA8E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FF9C2-7738-4B24-A073-40D848F9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EA46E-05DB-4F71-8C89-ED82D5B4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2BEFF-8831-4BA2-8D9A-D79A2B33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E11D8-1E8D-4B96-8CB5-12F58D94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57C13-D3DB-4E05-8052-0CB80B56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094D5-C914-469B-ADB0-0999A104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183E-1B27-4B54-ADAB-17CC49F6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89729-FEC4-4474-93A5-FA191DA5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609F7-2299-43E5-990D-79393738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AD95D-642F-40B4-BE4F-CDF93914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E26C8-E6E9-4450-8AB4-51E764CA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5EDDB-6654-46A7-8E90-C80DF4FE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B5979-EAA1-4927-96FD-4BF5D818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EE488-5956-4917-BD05-38B577FC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F625E-2815-4AD9-970B-BE029078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EAB33-5E7B-471B-ACEC-893E3330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89073-32CF-4526-A090-B31C26AA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25D8-AA9C-40C6-9905-13C2B6D6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44304-4DC9-4E70-8AA3-41C5AEDB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A71AC-91E1-4BDE-9C34-56465145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64209-4A0B-44BE-B7CC-7DC1F815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AE315-6251-46C9-8759-679D55E4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FE9FA-E9EC-49AC-BBF6-379CD56D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C3862-9E20-4385-9B7B-84C4DBD2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F9A49-62B5-4F63-8A04-22844B83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28E2B-A26B-4531-8E8E-A4DE64FE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C44BC-D94B-4FC0-8786-6DBC6FD4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C79EA-E4C1-4A43-8394-87E79C6C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74D2-66BC-4565-A9C0-4EDFB1EC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F7F77-1129-4577-8A41-958E441B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6F9AF-9662-4A87-A587-E4010AFF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31ED0-D9DA-4417-9143-F90D4D00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EC74-FFDB-460A-8278-27F796BC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628B-69AF-4F80-B076-8FE79B70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1EA7-463E-4551-9294-38E4B459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EA00-C711-439C-A40B-C88BAAF3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01AD-668B-4BC6-B6DD-3762758B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3E73-1B76-4DFC-85EC-8677779C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D32C-6FFA-4744-9E9F-56EFBF1B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23B7-93F6-4A28-BF82-C179E732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E1BA-0DA5-4006-B33F-43728894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D6D2-06CE-4CC8-9042-EA0618CE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7DE6-7FFA-4C87-9DAD-439B6B1A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680A-15F5-46E5-97A5-95B9B567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2B7E5-C8A0-40A1-BD7F-FC634557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913AA-A056-46C6-BFB9-F4AB10E7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02CB1-513C-4033-B00C-B58F60C1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0AF3F-1111-4E5E-AA3D-D69C43FC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2C3B6-3CDF-41B9-978A-6F2C2E2A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E50F-E572-4728-BAF2-CAF706EF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09F1C-0B8F-49C4-8C78-079DE4AC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7A832-D915-4C09-A8A6-214AA118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D5D25-D521-49DE-86CB-8C555603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78D8A-D241-45D1-871B-4934C4CC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8315F-ED42-4D14-9E9D-BEB563B2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0ACFF-CABF-44E5-9838-95A15B5F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57188-AB58-4CCE-A85D-B5DC76B2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9EB34-ABCE-488E-BB0E-3EE3EBD3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80F6F-626C-4621-8209-FFEEE9DE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A14BB-5377-47D3-8DF8-6A42E917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B8E8-26A1-49B3-B15D-9A3E0FB6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AE45F-3A72-4E05-ACB0-C33B1397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53115-D6B6-46C7-BBB7-A6092DB5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6158F-9A6E-40D0-B0D5-7B80BAFA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D2021-06AE-4802-8E86-4D5C60EE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3AADF-FBA6-46ED-B6E2-F789D271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8C914-2757-4FC8-B81E-D16B8CF7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7FE44-B8C1-481C-8A53-FE67CFA2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60246-3025-400C-9618-6856E50C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4EB63-44E1-40DA-8C2E-9825FB4D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6A205-2DAA-4945-9722-55B085EE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46AD-C41C-4D4E-8B11-B6484464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E56B3-4D48-4406-B8F2-B0D40DB7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EF1F3-57D2-4988-B338-CF55D132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11CE8-C4A2-4FA9-BFE4-7B941105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069B4-232A-48FD-8252-DBB842FA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C7971-0CD8-4198-92CA-FE093C54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D8CCB-1E93-46BB-8470-BD186168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64028-1C42-4485-99C5-2C16C88D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355B0-8389-4DBA-894E-6C013753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11587-5017-4374-B631-1952B71A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D10AB-81E4-492C-8AEC-E77291CB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E5CD-2B7D-42A3-B91F-97035DB5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33EBE-5291-497C-ADA8-57471DE5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29670-8126-4D2F-B205-3E81052F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2F1FB-B73B-48C7-B711-518EA166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E6967-507D-40FF-AD31-2819096C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3D093-5811-4BA1-B7A9-BBEC8FEE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1B484-BEED-4361-9BA2-9F3BC10D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542B8-FCF9-4002-A5D9-B2CC6CC9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C8E28-6371-4B63-9421-71E831E8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4AB63-500D-4F64-B480-99935EB4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1B0F6-B586-45C9-A267-334095F8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4891-F390-4376-89F0-B3504B89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04BD2-5428-4B88-9607-3F44FD10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1F14E-FE42-4C72-9DFB-E447DFA8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0684D-CB4E-4C02-BD5E-28740778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6DE98-C115-4FD4-B928-E7B1D31B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59074-447F-4B87-8700-F93DFBD7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C5CB7-EAAB-456C-908F-DE500797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95DF5-FEAC-48C2-A048-72BAC458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2105B-9770-4D91-9FE4-0B0B170D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290A3-9270-4CCE-987E-8DC14F33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76C1C-2798-440F-AC4B-62FB9366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B33C-653E-4C02-92E6-BD6752BE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4AA40-9CE9-4597-B5F1-0ADD9333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F8492-A98A-4A7A-BF2E-AD7D57F3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0C951-A9F5-4BAC-AEA6-2189900A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DA1F8-1E05-4F43-A314-793A0281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1E87E-8ACF-4D33-B714-59558DFF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9CEA3-2FCC-427B-BDAF-A99A483E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DA884-5D5C-4890-BAC9-DD499BA4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1308A-5773-4AD1-98C2-369095E9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911CD-A80E-4FD0-92A3-8003F35F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9C2CA-2CF1-45D7-8366-DED019B2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A25E-089C-4B57-B9B9-B801655F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0FE47-853C-4E40-A1F4-BC2FAA5D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DDA4C-3FDB-428C-B42A-F40E008A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79DD4-6DAE-41D1-8F4E-9E2A3174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12653-3432-4592-8E2B-5688B247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6DF2D-0FF8-4AD4-90FD-F5A1FE95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5C2A6-89B9-4F43-9CB9-53628CBD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F5CDC-C51A-4041-80BD-502A8E37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BDC9D-1566-4D30-8230-FECC1FDB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5E754-7B73-48B3-AC60-C90AA3B4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76FE5-1553-4526-8C8E-3DE4298E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803A-6B8E-4FC7-A78D-DB368DC3F694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7CCB-54F9-4D35-AE6F-451F660042D2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61A2-E65C-4E13-BFE1-66FBFBC7AB46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1678-E89C-4565-90CE-0D4C0F99E268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5032-5F44-435B-9A5C-45C43236BC49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AF47-05D9-4D8C-BBDC-4FF38CD2BF86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28E2-C602-440A-B4BC-DE24E5D3C44E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7664-126A-421D-8659-DE15D1818A9D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CA8F-A670-4A5D-A62C-CE69BC3EC7C2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A3F3-1699-4451-9C80-D4916477D925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8001-5C6E-466A-8957-808664AD53EA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2852640"/>
            <a:ext cx="7848360" cy="13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第十章 纤毛虫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宋体"/>
                <a:ea typeface="宋体"/>
              </a:rPr>
              <a:t>Ciliate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结肠小袋纤毛虫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alantidium coli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5" descr=""/>
          <p:cNvPicPr/>
          <p:nvPr/>
        </p:nvPicPr>
        <p:blipFill>
          <a:blip r:embed="rId2"/>
          <a:stretch/>
        </p:blipFill>
        <p:spPr>
          <a:xfrm>
            <a:off x="1835280" y="3976560"/>
            <a:ext cx="3201840" cy="288144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4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3043440" cy="3024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形态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268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：椭圆形，无色透明或淡灰绿色，全身披有纤毛。有胞口、胞肛结构。虫体中、后部各有一伸缩泡。染色标本可见大、小核各一个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矩形 2"/>
          <p:cNvSpPr/>
          <p:nvPr/>
        </p:nvSpPr>
        <p:spPr>
          <a:xfrm>
            <a:off x="324000" y="3068640"/>
            <a:ext cx="799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或近球形，淡黄或淡绿色，囊壁厚，染色后可见明显的大核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内容占位符 2" descr=""/>
          <p:cNvPicPr/>
          <p:nvPr/>
        </p:nvPicPr>
        <p:blipFill>
          <a:blip r:embed="rId2"/>
          <a:stretch/>
        </p:blipFill>
        <p:spPr>
          <a:xfrm>
            <a:off x="1990800" y="1262160"/>
            <a:ext cx="5533920" cy="50245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生活史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pSp>
        <p:nvGrpSpPr>
          <p:cNvPr id="497" name="组合 5"/>
          <p:cNvGrpSpPr/>
          <p:nvPr/>
        </p:nvGrpSpPr>
        <p:grpSpPr>
          <a:xfrm>
            <a:off x="2241720" y="1346040"/>
            <a:ext cx="5287680" cy="4365720"/>
            <a:chOff x="2241720" y="1346040"/>
            <a:chExt cx="5287680" cy="4365720"/>
          </a:xfrm>
        </p:grpSpPr>
        <p:sp>
          <p:nvSpPr>
            <p:cNvPr id="498" name="TextBox 3"/>
            <p:cNvSpPr/>
            <p:nvPr/>
          </p:nvSpPr>
          <p:spPr>
            <a:xfrm>
              <a:off x="3852000" y="32850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人体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99" name="TextBox 6"/>
            <p:cNvSpPr/>
            <p:nvPr/>
          </p:nvSpPr>
          <p:spPr>
            <a:xfrm>
              <a:off x="2241720" y="32958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宋体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0" name="TextBox 7"/>
            <p:cNvSpPr/>
            <p:nvPr/>
          </p:nvSpPr>
          <p:spPr>
            <a:xfrm>
              <a:off x="3973680" y="169992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脱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1" name="TextBox 8"/>
            <p:cNvSpPr/>
            <p:nvPr/>
          </p:nvSpPr>
          <p:spPr>
            <a:xfrm>
              <a:off x="6372000" y="2915280"/>
              <a:ext cx="108000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2" name="TextBox 9"/>
            <p:cNvSpPr/>
            <p:nvPr/>
          </p:nvSpPr>
          <p:spPr>
            <a:xfrm>
              <a:off x="6197760" y="4016160"/>
              <a:ext cx="1331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结肠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定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3" name="TextBox 10"/>
            <p:cNvSpPr/>
            <p:nvPr/>
          </p:nvSpPr>
          <p:spPr>
            <a:xfrm>
              <a:off x="2700000" y="1346040"/>
              <a:ext cx="1448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感染期包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4" name="矩形 4"/>
            <p:cNvSpPr/>
            <p:nvPr/>
          </p:nvSpPr>
          <p:spPr>
            <a:xfrm>
              <a:off x="3973680" y="522936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5" name="矩形 12"/>
            <p:cNvSpPr/>
            <p:nvPr/>
          </p:nvSpPr>
          <p:spPr>
            <a:xfrm>
              <a:off x="2268360" y="535140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1187280" y="691920"/>
            <a:ext cx="77774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史过程：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寄生部位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结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殖方式：以二分裂为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传染源：猪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阶段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期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方式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致病与诊断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：滋养体分泌透明质酸酶并借助机械运动侵入结肠黏膜及黏膜下层，引起溃疡（似溶组织内阿米巴痢疾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可能是一种机会致病原虫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、急性型和慢性型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：即初期潜伏型。在粪便中可找到虫体，但无相关症状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2"/>
          <p:cNvSpPr/>
          <p:nvPr/>
        </p:nvSpPr>
        <p:spPr>
          <a:xfrm>
            <a:off x="468360" y="342900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接涂片查滋养体，乙状结肠镜取黏膜组织活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矩形 3"/>
          <p:cNvSpPr/>
          <p:nvPr/>
        </p:nvSpPr>
        <p:spPr>
          <a:xfrm>
            <a:off x="382680" y="714240"/>
            <a:ext cx="828648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型：即痢疾型。发病突然，腹痛、腹泻、黏液血便；可有并发症，也可累及肠外组织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性型：周期性腹泻，或腹泻、便秘交替，常排出黏液但无脓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流行与防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流行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55640" y="1196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性分布。在我国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省、自治区有散在病例报道。宿主广，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动物可感染此虫，猪为重要的传染源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粪便污染及蝇的机械携带包嚢是重要的传播方式，主要是包嚢污染的食物和饮水经口感染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防治原则同溶组织内阿米巴，注意个人和饮食卫生，加强猪粪便的管理，保护水源，用甲硝唑治疗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3:12:27Z</dcterms:created>
  <dc:creator>shi</dc:creator>
  <dc:description/>
  <dc:language>en-US</dc:language>
  <cp:lastModifiedBy>hzg</cp:lastModifiedBy>
  <dcterms:modified xsi:type="dcterms:W3CDTF">2015-10-05T12:54:03Z</dcterms:modified>
  <cp:revision>27</cp:revision>
  <dc:subject/>
  <dc:title>结肠小袋纤毛虫 Balantidium coli</dc:title>
</cp:coreProperties>
</file>